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2924-56F5-4263-BCC0-EE5EA769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1144-64B2-47EC-A761-89C7926C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E8688-8454-4837-B4DD-152B0886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17D20-2E27-48C5-949A-ACB3D3AF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1BBBF-EA30-401A-BFB0-A1FE8E33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521B4-AD96-4D9C-AA71-78ED91BB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1A717-CB92-4014-8D7F-64532642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85F8C-7ADA-4E3D-8580-7C95090D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A29A2-51DB-41CB-BD7F-7C2DAFC3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ADE2A-D60D-4029-9F98-E4F42B29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9CFD3-C277-4EEB-BB41-873A5AB8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EB615-897C-4849-A0E7-7C18BCC5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851E-2C7F-49FE-B17A-DC118FE3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3211D-FB35-42A6-A12F-D6C21FE3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A25E2-4E28-443D-B6F3-DCC5FBBB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71D8C-B53B-455B-B10C-438D7775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4AFB2-8DE3-4B51-AB6E-2A044314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8B4A0-CF4C-4471-8E0D-03CFD572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EDE5A-CCED-4D11-8141-EBFCC134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9D6ED-C87D-4CA0-ACEC-F3408725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B01EE-A2C6-4A2A-BB42-EBE1E871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5EA6A-5EEE-4E6C-93A2-3E28F543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D5BDE-A0F2-484A-B22F-0F11FF88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EE3F-11B6-42A8-9D26-026BA1BD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D071D-1AFD-49AA-B0C9-F635589B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509B1-A8AF-4DB3-AD42-37E596A8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3E865-E12D-4612-94E3-1ADFB81E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6D9BE-98D2-45A7-816B-E5741A11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63DCC-BC8D-415D-987C-0FC37BCE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72FDD-2BB7-4D5C-81DA-1836134C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04537-BCB2-4D77-8CAD-C996D7A6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B5EB1-F3B5-42A0-B12E-32DFBDD8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1464C-2E04-4494-B5FD-B04518A4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D76C9-AF6B-4933-9B1E-39AB8B4D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80D8-198D-4D8B-A0CD-9A7A6E85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13558-082C-4B04-8801-0AE3DC5B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5B35E-C9DC-4211-8268-36804357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322DC-CA22-4E52-AC95-808B2EDE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9AE37-698B-4DC7-A3B1-A236343F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5EFF6-63AF-47DA-A50E-CCF521BE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24430-3532-4951-8A5F-DDA23090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956E3-1051-410A-AD0D-5341BE65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B38DB-8EE2-4BD6-AD22-B8589278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E9906-521C-47AC-B153-98A88B90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18256-BDAB-4A00-9B2E-724B5259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4998-EA82-453A-A4BE-75A6CF26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D796A-7C0F-4846-B5FD-CC2FC3FA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39B8E-DE33-4C99-AAD6-9597BAC0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57B3F-3936-4A50-85E5-80DB61E1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D56DD-EA00-440D-9B9F-350F487D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84742-E18E-439A-8129-1C3D17DF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8A7DED-F328-46D2-892E-BA89B6C8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3AA1CD-FF9B-466F-B917-F8ADDDF6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C0A89B-56C1-4D2D-AAD5-7953B7EA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31CCA6-D1DA-4C30-AEB4-69243646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567FB-97F4-4D32-B3E6-1B3E56F8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30D1-BF7E-49B4-8C4C-35C78BB1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AC21CC-1FD0-40B4-ACE7-EE646090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9FBFDE-AF34-4413-A3FE-B2E9974C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04664-9114-441A-A912-16E01A1D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30CB81-F52A-4FF2-B733-00CD8891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3785D5-D57B-4D77-BC3C-F8650EB5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06ED1D-35EA-47E7-A16D-3C3554D5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3C483F-6F39-4D79-9650-1E59879B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E31D51-EACB-4CC5-A4C7-36B3BA13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C0A44F-410D-4707-9228-4E118C10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180A0F-E17F-41C7-924B-979AC726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149B-ECC0-4CDC-8CA7-EEE78B63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318F7A-EB96-467D-A042-828246DB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7A3123-36E7-4C08-A573-283730D8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8D9632-9641-4DC5-910E-17402A33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F86D6F-A6F8-4612-BECA-6649C374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B0E3C-CB30-4907-B500-C71955AE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F0A5F0-A6CA-4D52-987A-C0EA6A17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3C2786-EDDC-41FC-B6AA-A4B60A88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D8873-B42A-45C8-B656-673CD8AF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8AEFFE-7160-4055-9E95-AD3EF7BE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5288E2-89B3-47DD-84E2-A990EE01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8119-93CD-4032-8E17-3A80054E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892E92-6B29-465D-8D61-47D1B2E7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1CF049-DECA-444B-8C95-078A1B6E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F37555-94BF-42FE-BE96-2F9F775F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3381B6-F81E-4208-BDB3-D62CBC64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7A48AF-697F-4042-96AB-589BBACF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2AC86A-25A2-4B6C-AEA4-C0DD565F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58E8FB-AB76-40BD-91D8-55738CA6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1A5F37-0CFE-48B7-9311-E9571475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1713F4-FFD1-4D56-ABDD-556B1C29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CA448B-4CEE-41A1-B111-018D4B54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72EC-8926-472E-AB12-2E1F919C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E0C57F-F7C7-4AAD-9B60-BF9EA9AC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A67323-CBAC-48FD-AEB4-2C39AAD2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C06CE8-3E06-4C23-BDC5-15B517F1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097DB0-C24E-4A04-AD4F-ABCC60D6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C8887F-719C-45DA-8EF7-6E616EB8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7E3A9B-6396-4ADE-B28F-2C8C6A40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BECF87-C966-4317-AE7F-C1D772EF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90E3C9-9DFE-44E7-AC8C-4108CB17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EBF2BC-73EF-4637-AD61-D73F8E6F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ECC09E-FF15-474E-923C-5863C153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3CBE-FED2-4B67-81B3-47D9EF6C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1BDB82-191B-41B4-AFC2-B6330021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73F178-550D-4A30-B89B-FEC493EB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6D3451-9541-423F-BCAE-AF03E936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908EE0-A9A0-44CE-8667-1B1E2281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11D03B-5394-4040-A673-F39E97BC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AF1838-19AC-4F3D-8AB6-77CDFBA2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570C11-079A-49C9-A131-33C232A7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02B943-5419-463B-A038-C91D38E4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636722-E52B-4181-B4E1-168D3456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DB636E-FF12-4C97-9FBE-3582C05B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E95C-C1E9-4849-B874-F51C6B6C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5710-1262-4E0A-A771-AD8ABFEF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5E92E8-D215-42BA-9E27-48632B12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88B398-D874-40D1-83D4-E2D5F1AA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1B4041-E6F8-4ACF-913E-B465339A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406948-A7C9-4F89-82EE-8A8505E1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2E0E50-ACBC-4F77-AB24-AA32FC36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3572C4-FA03-4A19-BA81-9E95A286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1046B0-09DD-4F1F-B41C-2D27FD18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C7AE72-17BB-4E3D-AFB4-D912C65B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582DA6-DB66-41D1-B1AE-7D4666BA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C2A5DE-3320-4FC8-9AEC-D382BE44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15E7-8014-44D8-B321-F7911429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4BA538-5B5F-40F2-9B7E-1B13CDDC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E5A83B-CE51-47EB-A38F-EB883BE9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69A6D9-67AF-4FA8-849F-838435ED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CDB9F9-8043-4D7F-8164-E0FA27BD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35F937-0E20-45D0-8EFC-09D4D816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0B3EFA-B124-4432-9C60-525065E9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42EA0A-F84D-486E-9677-6F67B647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719C78-E27D-4344-BD90-4A694E1C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885F2D-1464-4116-8BEF-B81ECFAC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BE42E0-8C81-4F66-AA8C-E7EB1D0F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0CBD-0934-414B-A1FB-958EDCF6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63C845-71B9-4AF6-88A4-56710012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89ED40-25B4-44D5-8C43-BFF4E941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32BECF-7236-445F-ABEF-E69DFCE2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0AEC08-9BAA-4CE3-9B07-68E0E955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2E82C2-7586-45EF-988D-2C464B12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7224A2-9B8C-4A1C-87A9-F86A340F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EA81D5-91B8-42AD-871D-FF23242E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409375-B767-4A42-A893-7AAAFD8C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2A062C-1439-4F60-9096-C22FE06B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AB9A5C-D289-4CE0-8CED-098D4783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D6A9-56EE-4B16-8346-08CED857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B3A547-CD83-4093-83DD-AE1B900D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DD4523-1B9F-4BAE-9A74-3948C38D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78FC46-BECD-40BA-B89A-5955C539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5C17FA-DBC2-41F4-950C-E54788FC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DFF134-8908-4D21-B5F6-99B77DC3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1ADBA0-79BC-4F3A-AC8F-9C723B28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A74954-98F3-40C4-8366-49FAE074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9AD971-27A1-44CE-8C7C-53B12AD7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7FD8BF-8FDB-4923-BBE5-B6ECAED6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8AAB9A-B047-4A57-88F7-0030EF3B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2D88-F330-4CDC-8B18-B069603C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93275A-4914-4154-B682-A6936514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736F86-1755-4C1C-996C-FC7476CF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88D633-1070-458B-A1AE-DF908C1E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222A77-1322-4D13-8E03-1F5B57B3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FB6056-71B0-424C-A755-9324F2E6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536912-B934-4964-9DDC-D353C2EA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0B7766-9341-486C-9B9C-E51F3EDD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2E61DE-A879-4432-B6F8-40CBFB73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A3BA2B-D95D-4761-811C-AE6A9690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001C20-C343-4A09-B132-20A5A780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3BD85-57B0-4CB4-A0A4-6EA23179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6EE052-F681-44DD-B0A3-CFE8031E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5F7F2E-0919-4AD6-9211-2987AA71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77ED91-E391-4DE8-8036-4771AC19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18E61-B1B0-4103-8E39-D42A695A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1FB68-CB19-444E-9AE1-E5CED8DC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84F7B-9A4A-40FA-B671-8031D262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96994-95EF-40CE-B716-0BE67F0D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526B-F7FE-4FCB-ADE5-F58236E4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18A85-F5A7-4C73-A7F2-7BD230C6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3F75B-BB79-4364-B614-87F081B7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120F3-95F7-444C-9CFF-112AA803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9C710-67A4-4DA8-A372-D1A61169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B8F15-C91E-45FB-B2B8-D48C2D8D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902A4-6331-4013-A225-F24AA6BC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C0F45-3EC2-4BC0-97EE-45E2D70B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9AC04-3E82-46D1-8919-D2655486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F50EB-E7C4-4F97-8E34-B997448E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7D050-BE39-44FE-946B-60E18CAF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5FBB-7F33-43F6-BA75-4EFE2344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9289E-98B2-453D-AB6C-13E340BD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AF0CA-5140-4C40-B7BC-78ADB91A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7BB1E-90C3-4E7E-9FFB-8B1C6EA7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ACEC5-F4CE-4E8D-B4E2-ECC9D0ED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84CD3-6A71-4BA4-969A-E07D3D01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D43B4-B72A-4F1A-BA32-4AA2C975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DFADD-1AEB-475F-9C4D-08A9C8D5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D64D9-0BAA-465D-B504-DD48D990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BA5BE-BDE1-4438-9759-B4158D60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FAD29-25AB-41F3-9C99-DB3B6790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8D18-959A-4F8C-A35E-18B60072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62771-F9F4-4867-9A6C-654B5E5A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40F8E-C9BA-4A2E-AE3B-4622FE35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A649F-EF01-477C-93DC-2C393560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24FA1-A250-4980-8265-EA793C2F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A44C0-1FD8-4604-B0A1-1FAD8697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3E739-B85F-4C84-B56D-DF6418B4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DF555-8EA2-4F56-BA7E-0B27D383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E0CDD-0344-4AE9-8C92-2A65ECB7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17613-A71A-4481-908F-1307677C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B1057-3131-4314-BFAD-45073D76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0D1-C827-4D39-B8B0-0DF9D817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6A614-7DC9-4987-8016-385736A9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99AC4-280A-4A9E-8ECF-FD7FFECE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3ED75-02F1-4A5D-A648-54B6A43C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2BF13-A05C-4F6D-85A7-70A4E22B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8A0D4-90B7-443B-99B7-3A780798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D7924-E75F-42EF-83AB-48A7A443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7A2B1-EF51-44E9-AF44-0CD033E3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0A14E-58AF-4712-9E9C-1A1A0B07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3F2CF-2BC7-469B-8B65-DFEECDCC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1F2BF-1DFD-4BE8-8602-A495E6A6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37DE-700A-4318-B69C-595F0A58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F20DA-36AD-40BD-B19D-85D85C1C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71153-8CA7-4C34-93D1-DC1D7BE6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35837-9499-44DD-92E2-39B8B642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1925E-646A-40D2-BF2D-DB1045B1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F17C3-8ECB-4DC2-B7C3-074A8888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3FF54-7213-425E-B2A0-D45EA349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3305E-37DF-4E67-9BF4-0AEC9368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FBA0B-B849-4BBB-99B8-9DC0AD2C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055DA-E851-4A3A-866C-C1A67705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8ACED-24F3-41C9-9849-AACEBF1C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B6D4-9523-4C1B-95F2-751FDE3B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BDD41-1503-46E4-AF0E-C6C2291B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774E5-38AC-495F-B40E-AD7F7890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7FE1F-8427-4C8B-B133-E2CBEEB4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2AE5B-ECAF-46C9-876B-E2365334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AE52A-5777-4B72-84B9-14625BC9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DF06E-BBC4-4355-A78E-701CE62C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25174-091F-418E-890F-50A73569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8880E-D9EB-40AB-88BC-CEC38D01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089C9-BF5D-4CB3-B34A-3834ABEB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CE98A-EFAD-4FDF-BF12-DD1F102E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0170-9682-44DF-B39D-CBB6FE8D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D5CF5-1EBA-4DAC-A086-E012C693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3505B-59B7-49FE-9FE8-EA943F77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357EA-4E48-41C5-9815-B786E6FB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2AD25-8ED9-408E-B09C-D22D9E29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7D6D8-992E-429C-A4FC-E2AEA50B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28534-C70E-41F5-9C6B-5066A272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FCF7A-18FF-4C44-99AF-6CA3CC73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9591C-0999-4FA7-92F7-19B30FEB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7CE79-2B3E-4C51-8F69-5AD92963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75F51-7643-4C5C-9A2F-F95559AE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8BC8-7394-4964-AAE7-EC261352E1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56C5-B823-4380-B590-0B295D1FF3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72FE-8FF7-4084-8393-B0212FF44A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8C10-0541-4E38-A70C-46B276E0D5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636B-2299-4462-BFB6-FEE0396623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490C-E8D9-45A8-B3B1-3BC8567900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4E25-9573-426B-AEBF-41B2F6BAF0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F1DF-2EDA-41FD-89B2-404E6E4564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1053-EEEE-4D5B-8E79-6EC782CD50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A5CC-FCC5-49F5-81B4-87DD2F6D67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9BED-3447-43B1-B814-AD538C7B81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6010-DCD1-4172-BB27-690FD9A913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4979-5E7B-4808-9042-0F765E42DE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E6EF-FC41-4E48-A2F8-59BE9FFA79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B49D-FB14-4D9D-90B6-CA1F8D569A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B3F9-CB06-477B-9A53-4DE1FA1ED9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8BA7-4C04-4BD4-A57D-97EA9BE0DC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9D66-1689-4D70-987F-2D00F30BF9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D269-FA4E-485E-AF2D-FC1EE6C99E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81CD-7A48-4002-B23E-D4EB05697D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8E89-E702-4E1B-BE30-971C09A48A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0207-7E9C-47BC-AF80-351DF48F00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9F30-87DB-4284-BF7A-E41157241A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CC12-7335-4078-B11A-5E994E8E6B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ED73-D170-496B-BAAA-42CE594391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1E6B-9F05-40EC-AAF9-1EA9A3B8A7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6F01-1125-4E7B-8B52-7802D3AD4E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216C-69F1-4B7B-8F4C-A446BFF9D0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5949-3B37-420B-9FC0-981D9AFCF8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A078-45E9-4F74-BF58-DC29E8D159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0E83-1FC2-4031-980B-515628411E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CE37-7031-43C0-96E5-AE17722602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A31C-FB2E-4A3B-AACA-8FE9E361C8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ECE7-D462-41DE-A4CE-BC2BE3366D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0152-0120-4966-B565-5B8B41DA8C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5017-B2F7-46B2-926F-B9922A583B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9519-D9DD-4B30-BB8A-D9BE798D8D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40E5-CB28-4B68-843F-976C077D17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59C9-03E5-44AB-8C8C-7188FA81A8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7EB5-2A18-402A-BF74-2E680BC3B4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452600" y="3076560"/>
            <a:ext cx="62388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09600" y="237960"/>
            <a:ext cx="8524800" cy="63820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308720" y="1066680"/>
            <a:ext cx="1584360" cy="5065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900000" y="1844640"/>
            <a:ext cx="1584360" cy="5065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276720" y="1787400"/>
            <a:ext cx="2590560" cy="5065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948360" y="1787400"/>
            <a:ext cx="1944720" cy="5065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11280" y="2565360"/>
            <a:ext cx="1584360" cy="5065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581880" y="3270240"/>
            <a:ext cx="2340000" cy="5065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684360" y="3976560"/>
            <a:ext cx="1584000" cy="5065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7199280" y="3976560"/>
            <a:ext cx="901800" cy="5065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4572000" y="4667400"/>
            <a:ext cx="901800" cy="5061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3492360" y="5388120"/>
            <a:ext cx="1224000" cy="5061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2050920" y="6121440"/>
            <a:ext cx="1224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9410" descr=""/>
          <p:cNvPicPr/>
          <p:nvPr/>
        </p:nvPicPr>
        <p:blipFill>
          <a:blip r:embed="rId1"/>
          <a:stretch/>
        </p:blipFill>
        <p:spPr>
          <a:xfrm>
            <a:off x="581040" y="1704960"/>
            <a:ext cx="7981920" cy="34480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1152720" cy="5065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3059280" y="2435400"/>
            <a:ext cx="1152360" cy="5061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6084720" y="3141720"/>
            <a:ext cx="1152720" cy="5065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2987640" y="3860640"/>
            <a:ext cx="1152720" cy="5065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6"/>
          <a:stretch/>
        </p:blipFill>
        <p:spPr>
          <a:xfrm>
            <a:off x="6588000" y="3875040"/>
            <a:ext cx="115272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76801" descr=""/>
          <p:cNvPicPr/>
          <p:nvPr/>
        </p:nvPicPr>
        <p:blipFill>
          <a:blip r:embed="rId1"/>
          <a:stretch/>
        </p:blipFill>
        <p:spPr>
          <a:xfrm>
            <a:off x="328680" y="814320"/>
            <a:ext cx="84866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8373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8058240" cy="4705200"/>
          </a:xfrm>
          <a:prstGeom prst="rect">
            <a:avLst/>
          </a:prstGeom>
          <a:ln w="0">
            <a:noFill/>
          </a:ln>
        </p:spPr>
      </p:pic>
      <p:pic>
        <p:nvPicPr>
          <p:cNvPr id="942" name="图片 58374" descr=""/>
          <p:cNvPicPr/>
          <p:nvPr/>
        </p:nvPicPr>
        <p:blipFill>
          <a:blip r:embed="rId2"/>
          <a:stretch/>
        </p:blipFill>
        <p:spPr>
          <a:xfrm>
            <a:off x="3100320" y="4797360"/>
            <a:ext cx="3200400" cy="19051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1476360" y="1370160"/>
            <a:ext cx="1943280" cy="5061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6156360" y="1355760"/>
            <a:ext cx="1942920" cy="5065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1619280" y="3933720"/>
            <a:ext cx="1942920" cy="5065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6"/>
          <a:stretch/>
        </p:blipFill>
        <p:spPr>
          <a:xfrm>
            <a:off x="6084720" y="3905280"/>
            <a:ext cx="2374920" cy="506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7"/>
          <a:stretch/>
        </p:blipFill>
        <p:spPr>
          <a:xfrm>
            <a:off x="3851280" y="5877000"/>
            <a:ext cx="144144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7352" descr=""/>
          <p:cNvPicPr/>
          <p:nvPr/>
        </p:nvPicPr>
        <p:blipFill>
          <a:blip r:embed="rId1"/>
          <a:stretch/>
        </p:blipFill>
        <p:spPr>
          <a:xfrm>
            <a:off x="304920" y="252360"/>
            <a:ext cx="8534160" cy="63532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900000" y="6165720"/>
            <a:ext cx="3743280" cy="50652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57354" descr=""/>
          <p:cNvPicPr/>
          <p:nvPr/>
        </p:nvPicPr>
        <p:blipFill>
          <a:blip r:embed="rId3"/>
          <a:stretch/>
        </p:blipFill>
        <p:spPr>
          <a:xfrm>
            <a:off x="1476360" y="1809720"/>
            <a:ext cx="68198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6324" descr=""/>
          <p:cNvPicPr/>
          <p:nvPr/>
        </p:nvPicPr>
        <p:blipFill>
          <a:blip r:embed="rId1"/>
          <a:stretch/>
        </p:blipFill>
        <p:spPr>
          <a:xfrm>
            <a:off x="290520" y="262080"/>
            <a:ext cx="8562960" cy="6333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900000" y="4653000"/>
            <a:ext cx="8064720" cy="5065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826920" y="5359320"/>
            <a:ext cx="8064720" cy="5065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755640" y="6093000"/>
            <a:ext cx="806436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5300" descr=""/>
          <p:cNvPicPr/>
          <p:nvPr/>
        </p:nvPicPr>
        <p:blipFill>
          <a:blip r:embed="rId1"/>
          <a:stretch/>
        </p:blipFill>
        <p:spPr>
          <a:xfrm>
            <a:off x="328680" y="1938240"/>
            <a:ext cx="8486640" cy="29815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900000" y="3573360"/>
            <a:ext cx="4535640" cy="5065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826920" y="4292640"/>
            <a:ext cx="597708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4276" descr=""/>
          <p:cNvPicPr/>
          <p:nvPr/>
        </p:nvPicPr>
        <p:blipFill>
          <a:blip r:embed="rId1"/>
          <a:stretch/>
        </p:blipFill>
        <p:spPr>
          <a:xfrm>
            <a:off x="257040" y="861840"/>
            <a:ext cx="8629920" cy="51343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4211640" y="234936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1547640" y="3213000"/>
            <a:ext cx="648000" cy="506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2050920" y="3860640"/>
            <a:ext cx="648000" cy="5065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2627280" y="458136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6"/>
          <a:stretch/>
        </p:blipFill>
        <p:spPr>
          <a:xfrm>
            <a:off x="2987640" y="5272200"/>
            <a:ext cx="64764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42:33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